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520D-3A48-4D27-BF70-0A07E0DD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0A2E-2F92-471B-9926-105EE230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3172B-A387-4C7F-9BFA-7BAEC644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58AB3-4580-4548-A33C-76D89032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D0D73-0C0D-461F-B387-2B594306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4C2168-07C8-4A4D-A82D-4D4125CD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01A3D-4F46-4F79-865D-E6EAB905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0C851-90EE-4941-A4FA-844D3457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89F3B-0FA4-4DDA-B892-885362DB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B2918-080C-40CE-AEA7-3FFC1253E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1E0CE-C2C0-45B2-B135-88C30C5C0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4820DB-C4D9-42B1-A206-2AAA3B9C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431B-F824-4732-81EC-CEDD35E56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0D7ADC-43D6-4D36-B668-8F28D7E7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87215-2026-49FC-9904-F5F003B2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F5F09C-3613-42CD-8340-4EE42BF2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E5E85B-7246-4F6C-BFAA-886CC8C1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2FAEB-0E7B-4907-B60D-6A65D440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E2410-4788-49B7-A00F-572AD79B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26B539-9F54-4D3C-B49B-C5800C9A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384E5-CBD2-4D44-8B3D-FC0BC29E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50423-5B5F-4D80-A274-261DA6CB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FBADF3-A4E6-4115-A547-0332A375B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2089-4B97-4614-9565-B41BFDF4F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95377-6C3B-4941-9F0D-9BF114F0A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A5D1A-4018-4CF1-956E-25F8D51A9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B2EC7-A27F-48D2-A44A-4D323D3F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A0F75-D048-43DE-B286-452B920F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A9752-18DC-4AD7-8079-755EEDB0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FF19E-64A2-4B9D-A356-FB74EFEA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B91B8-CD9D-4A77-B607-B28E653E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978BB-C033-403E-ADC9-E452A204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D3ED4-5EB0-4B6D-A010-6246EF8C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C9C84-4DE2-4210-B66C-AB60EF3F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0A23-575D-483E-B617-16DB7B2F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4EE8B-2599-479D-BC35-825BFC6C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7F04E-71D2-419F-B39F-06A591FA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B01D5-C14D-444F-BC42-FC1F4FC8A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59D5F-2727-4EF3-A202-AFA94D598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797523-2C05-435B-BFFE-86B2EC65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C49D0-8116-4932-8CE5-F359E9C2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7FA777-45D3-4B49-9B9E-3D592468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8D176-9C03-4C88-9323-321AEAC4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D1C620-8740-4997-87BC-652CB159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6F6AC1-3F1C-4C18-8677-074C0B9F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8D75-42D3-4811-8160-7BCF377A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B6A7F2-1A1B-440D-A443-D46D5E4D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4C3253-63DF-47BC-8057-6015F410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0850E-BF40-4404-9819-77D5E9EC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7DA1C7-A783-4ADF-8965-6D6A9AE71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C0A27-684A-40C2-BB57-3F719B06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BB9B0C-81F0-4A2F-A9DE-5DBD73E0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6535DE-8318-4601-BB08-7BB7A9B9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EB1111-2879-4F2D-8A91-EC1F28CB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181587-05C7-42AB-8908-C2DED262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3FCD62-D3DE-4A15-9352-E86A3B51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D066-2E4C-4B2F-916B-B6BE9038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3233A2-1A63-4DDE-B79B-EA367DA9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BD9C51-F45F-44A8-8667-7D03BC84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2016C9-89C0-444A-8068-4A18D8DE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0F6B05-4669-403D-B5F4-359D22BC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41BFA2-A066-4B30-B4C7-5B110E2B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E35803-75C9-49B2-8F83-D875A821A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C9433C-339E-4C21-AFB2-B37D72D75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5B5D6E-2457-4600-894A-2541D4FB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E3978A-42FB-4458-A6DD-9F2C2D9D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ACFC67-2A88-498F-827C-64B7CCD1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E115-B98D-4259-A4B1-B9E19789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75ADB9-DECB-479B-8F0B-83A5E94F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6DD2D4-84E8-4566-8E34-1A8CDC99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0D630B-58F3-4F32-933E-B3881CFA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EE1260-9F28-4F1E-B42D-441297EF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F54090-8B71-4C4E-BDAF-6337A436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6D511D-DC0F-451B-8007-7B403647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2BD555-63A7-4888-A7EC-84D2CCF1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0BF18B-4AD3-481E-9F71-61EDCDA6A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2D2054-7F30-4225-91CD-D9CA76EE2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3E8404-2503-4091-989F-5F97B050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2A1A-FE92-4A3D-994D-44CFF1F2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5FAF4C-A1E9-4663-B42A-7480C436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186E9F-EF97-449C-9AE4-096A55C1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335890-A020-4A48-87ED-FE0EE599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EAD81D-7443-43B3-B9E8-BBC3E5E0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D9441A-2051-42D8-A194-87D6FA88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CBE9F1-14C3-4964-AA73-DE621BC0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7DFB2E-9010-4EDE-93C7-5A8D2BC1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262009-0B09-41A4-9699-AEBB290D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3D418A-6D9F-4FDC-9E69-B1307898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6477B8-9478-4092-A506-1BAACF092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8067-9C1E-4CD9-953E-3BD392AF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1F271C-A949-4498-A09D-1DF79F362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4ABC-B678-48A9-9150-AF82D635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3805-C0D7-4086-AF9C-346FE06C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9F77-C551-4051-9769-1FA8B08A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1B6A-DB59-408D-AC0E-37A0658C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6176-78E1-4B06-AC97-B476DC5F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605D-E64A-4F1E-B3FF-18E3DBC61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9A4D-C63F-4777-B6E9-56F448D6C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E486A-9CE3-4287-BA33-C9075F88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7F498-22BD-46DC-B86C-D28CE7D6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6F939-99B5-42AF-B81C-92B85740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C808F-4B21-4188-97EF-A3C273E9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75C7C-53EC-47C0-9D3F-61821798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1882-D46C-4BF9-A5C1-47D8CD9C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532A0-5BE0-4D3B-93A6-06DC65B2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F1E10-7DF4-4B97-BCFA-705C59A4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7504C-89B7-4EFB-ACFA-4CEF5906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CA501-A9F1-4E7A-A97A-92C31950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87252-5F08-49D7-BDDD-9853BF7D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EEF76-1CFA-490E-B6F6-5F18477D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9CEDB-62F4-4C45-ABDC-7C33F7390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D29C9-1D81-42CE-B44A-3B6E306AD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97BC5-71D3-4AF5-A4BC-759C0A84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29EE3-C37C-402D-A28D-B587E63D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AB59-9A39-40BA-BD00-993318BF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628C2-0B2C-4604-868B-6A413A08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35A84-4689-459A-AF32-3E790DF3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15718-08A4-4FA4-AD08-FF35C9B5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A4E06-5680-4897-9B20-1A402D47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55067-AA2E-47A0-921E-8965AE6B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D3284-908A-40D7-A1FF-6F3B376B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CB670-ECC0-4650-BD0B-4E5187CE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56704-0479-49A8-97A8-EC9F175D2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67126-FF6A-4405-BDB0-2DD35AEFB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1515D-CCAF-45CF-B3BD-CFC052109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52F3-1E64-4300-BE74-820EA3EA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389D3-7CDD-48C7-8EA6-4ACC8F40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2E344-408F-4560-97EF-4F3D242E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2B991-8C13-4207-9D59-C4A56DE2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4EC72-9570-4A89-88ED-5D11666B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4BB1B-5EDE-47F0-998C-2A8F6137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9AC6C-26F0-41C0-9D50-071A2E3D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3477C-E55E-4AC2-A970-4A2D33FF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EF00B-D4F9-4BBE-AEC6-49B36D1B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E6DE6-04DA-4055-9957-E1DB8E1E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F358B-094A-49E0-A6D3-DD414E7E1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488E-FD0B-437B-8A5F-2682F6D4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057B3-753E-4CAF-BC0B-DBECFA402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83AB6-12DC-41FA-8DC2-CD5393719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ADF5E-6D31-4279-9E10-A6018E1B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3D46E-2F2C-47B5-9AA2-5C1A42D3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970E8-7280-4B99-B9B5-81B0F835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03116-65BC-4D83-B536-406C4669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83562-71B8-4AD3-A41C-FFD82D1F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C062E-2CFB-4CDB-8CC4-B83E292C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54E3B-5A2D-4FBF-873F-702036B3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DBC4A-23C0-4C80-AA6B-0C0C85BC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4C01-9FC5-49AA-BDAA-D967D98C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9CDC9-FAE4-4044-BF76-B2B9D667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BE824-201B-4322-A364-698D329CE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C3E38-62BA-45A3-9663-27E42E7B3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53853-94C9-4036-8123-49058F486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A0BF7-CFF4-4CEA-9489-682E8060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6EDF1-B07D-41B7-BDD6-FD547C74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39CDF-F65B-4DAD-BB8C-84C3F38E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8AD97-B88E-4CF9-B436-72151EA1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0A61C-C2F9-4B7C-9ABA-B8626B8D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AE870-094A-407B-9E52-8D9C008C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1DCB-56FE-4B5F-AF24-9D734FD4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DBA5E-00BF-4CA3-A979-3A402679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D2AB0-CB00-4C1C-B2F3-34E60B71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74DFF-0F78-46D7-A678-E27919C6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24C42-CA7C-4C31-A53A-570C9FB2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A2E65-3D00-46B4-A31D-9EA9C5163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6B32B-77CE-42BB-8192-AA20337E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14A77-0550-4359-A731-22EDB3D5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9FE44-E484-47D8-A464-13A6414D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B0665-CD01-4C6D-960F-7D8E9C71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FC9DC-4755-4658-BA43-5A96F2C5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803F-62F4-41F4-8381-1801AE09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4D3D9-D495-494D-AB5F-23B68FDA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66524-AB35-4AF9-ACEB-9900C89D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82E61-FD5A-4910-AFE0-798B4910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058AE-13D3-4821-8E8E-F695EC2C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C1D9B-4527-4E0A-AB39-B7A3C4BD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F44DD-517B-45ED-9255-A8423BE7F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ABA0B-703B-4315-AC43-533E15EC6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539AA-1824-48B8-8101-AD2E7B00F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773BA5-8299-4B2F-A126-BD58735F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E325F-A7C6-49C5-A579-61E83A2D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AD8695-BE5F-48A9-B195-ABFD219774FC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003AE0-D8E3-48E6-BBF8-AB0D6F208932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6" descr="Overlay-FullBackground.jpg"/>
          <p:cNvPicPr/>
          <p:nvPr/>
        </p:nvPicPr>
        <p:blipFill>
          <a:blip r:embed="rId3"/>
          <a:srcRect l="50002" t="0" r="0" b="0"/>
          <a:stretch/>
        </p:blipFill>
        <p:spPr>
          <a:xfrm>
            <a:off x="4572000" y="468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overlay-ruleShadow.png"/>
          <p:cNvPicPr/>
          <p:nvPr/>
        </p:nvPicPr>
        <p:blipFill>
          <a:blip r:embed="rId4"/>
          <a:srcRect l="0" t="25032" r="0" b="0"/>
          <a:stretch/>
        </p:blipFill>
        <p:spPr>
          <a:xfrm>
            <a:off x="4451400" y="0"/>
            <a:ext cx="125280" cy="68547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2666520" y="6356520"/>
            <a:ext cx="162252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E1D488-1B4A-4C94-BEC6-0A8639885BE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240840" y="6356520"/>
            <a:ext cx="189252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1891800" y="5748480"/>
            <a:ext cx="762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D2DA0D-48CD-4D1D-9D7F-6A4B1B52A8DA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6" descr="Overlay-FullBackground.jpg"/>
          <p:cNvPicPr/>
          <p:nvPr/>
        </p:nvPicPr>
        <p:blipFill>
          <a:blip r:embed="rId3"/>
          <a:srcRect l="50002" t="0" r="0" b="0"/>
          <a:stretch/>
        </p:blipFill>
        <p:spPr>
          <a:xfrm>
            <a:off x="4572000" y="468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overlay-ruleShadow.png"/>
          <p:cNvPicPr/>
          <p:nvPr/>
        </p:nvPicPr>
        <p:blipFill>
          <a:blip r:embed="rId4"/>
          <a:srcRect l="0" t="25032" r="0" b="0"/>
          <a:stretch/>
        </p:blipFill>
        <p:spPr>
          <a:xfrm>
            <a:off x="4451400" y="0"/>
            <a:ext cx="125280" cy="685476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2670120" y="6356520"/>
            <a:ext cx="162720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9DE90C-6A38-41FE-B56F-54DDF0FD5726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240840" y="6356520"/>
            <a:ext cx="189396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1892160" y="5738760"/>
            <a:ext cx="7588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FF3527-F7E8-48B5-97EF-A990117B9757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6" descr="Overlay-FullBackground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10D194-C86D-4F0D-8DA1-918A6755D836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DCC91C-9585-4C98-8B15-88303C3CC10B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7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4058CA-B17A-4FEF-965B-090F213212F5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8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8806A5-99D5-4644-A030-05D266E65D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40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E83863-6765-4929-B868-328537D15100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41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4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3A8477-689C-4E3C-AAC8-63A3AD77DC70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6" descr="Overlay-FullBackground.jpg"/>
          <p:cNvPicPr/>
          <p:nvPr/>
        </p:nvPicPr>
        <p:blipFill>
          <a:blip r:embed="rId3"/>
          <a:srcRect l="0" t="0" r="14720" b="0"/>
          <a:stretch/>
        </p:blipFill>
        <p:spPr>
          <a:xfrm>
            <a:off x="0" y="4680"/>
            <a:ext cx="7797960" cy="68580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7" descr="overlay-ruleShadow.png"/>
          <p:cNvPicPr/>
          <p:nvPr/>
        </p:nvPicPr>
        <p:blipFill>
          <a:blip r:embed="rId4"/>
          <a:srcRect l="0" t="0" r="0" b="25032"/>
          <a:stretch/>
        </p:blipFill>
        <p:spPr>
          <a:xfrm>
            <a:off x="7786800" y="0"/>
            <a:ext cx="125280" cy="685476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43"/>
          </p:nvPr>
        </p:nvSpPr>
        <p:spPr>
          <a:xfrm>
            <a:off x="7924680" y="6356520"/>
            <a:ext cx="10670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A5BD13-3507-4F22-8BA3-D7C7DCD5EFB0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44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45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EFBF25-C493-4C83-AB33-E26FA404EFC3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Overlay-FullBackground.jpg"/>
          <p:cNvPicPr/>
          <p:nvPr/>
        </p:nvPicPr>
        <p:blipFill>
          <a:blip r:embed="rId3"/>
          <a:srcRect l="0" t="50005" r="0" b="0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overlay-ruleShadow.png"/>
          <p:cNvPicPr/>
          <p:nvPr/>
        </p:nvPicPr>
        <p:blipFill>
          <a:blip r:embed="rId4"/>
          <a:stretch/>
        </p:blipFill>
        <p:spPr>
          <a:xfrm>
            <a:off x="0" y="3303720"/>
            <a:ext cx="9144000" cy="125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B168AD-A87A-4DEC-8FE3-F3A0382E2312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97CE82-D69B-46D5-AE7D-0FCED57F35AB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D16EE5-615E-4D73-90BD-587ACD447E6E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C97F61-B108-4853-A648-88FDE53FA892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Overlay-FullBackground.jpg"/>
          <p:cNvPicPr/>
          <p:nvPr/>
        </p:nvPicPr>
        <p:blipFill>
          <a:blip r:embed="rId3"/>
          <a:srcRect l="0" t="50005" r="0" b="0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overlay-ruleShadow.png"/>
          <p:cNvPicPr/>
          <p:nvPr/>
        </p:nvPicPr>
        <p:blipFill>
          <a:blip r:embed="rId4"/>
          <a:stretch/>
        </p:blipFill>
        <p:spPr>
          <a:xfrm>
            <a:off x="0" y="3303720"/>
            <a:ext cx="9144000" cy="125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792EB8-7D9B-4B18-BE52-30EF6509A3BD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4B5552-88D7-47AA-8ED8-140A0C4184B7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4446720"/>
            <a:ext cx="9144000" cy="125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Overlay-FullBackground.jpg"/>
          <p:cNvPicPr/>
          <p:nvPr/>
        </p:nvPicPr>
        <p:blipFill>
          <a:blip r:embed="rId4"/>
          <a:srcRect l="0" t="66668" r="0" b="0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5659EA-9D12-4E90-BF03-158E3C1092B7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B208D6-D83A-4DF2-9DD9-91CB1855FBD3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98F4C3-4DF8-45D2-9ADA-E04D11AFE766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DDF80C-49E4-4282-A886-4F1C3BFD626B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B10034-C986-4F1B-94B6-020000D6AF1E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E6E21E-CED7-46FC-BE73-68CD3385A921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Overlay-FullBackground.jpg"/>
          <p:cNvPicPr/>
          <p:nvPr/>
        </p:nvPicPr>
        <p:blipFill>
          <a:blip r:embed="rId4"/>
          <a:srcRect l="0" t="21048" r="0" b="0"/>
          <a:stretch/>
        </p:blipFill>
        <p:spPr>
          <a:xfrm>
            <a:off x="0" y="1447920"/>
            <a:ext cx="9144000" cy="541476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EBC948-E117-4EB9-B3D9-9D1000C1B70E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DA6A6D-FF53-4543-9D3D-DD8CCA65FABD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6" descr="Overlay-FullBackground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898FD2-95C9-48F7-965C-53D995D2E16B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DFD92D-58D3-46FF-B7BD-6917620C7CAF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derstanding Community Partners’ Motivations to Participate in Academic Outreach</a:t>
            </a:r>
            <a:br>
              <a:rPr sz="16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779040" y="4572000"/>
            <a:ext cx="7583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glas Barrera, Ph.D.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of California, Los Angel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RSLCE Annual Conferen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timore, M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24, 201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04920" y="1600200"/>
            <a:ext cx="853416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cument analysis by cas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spcBef>
                <a:spcPts val="7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iew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ivided data by case &amp; constituency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rst cycle coding within case looking for converging and diverging dat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cycle coding within case looking for categorie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ustered categories across the cases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40D61F-92AE-423B-BB38-65E8D10AA779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ing Them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rtitioned and clustered the data (both interview &amp; document data)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veloped emergent themes across case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ivic interdependence emerged from themes on motivation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A8EA38-0128-473A-885C-A7E6CE7A3C63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nding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FB1B9D-4C00-4BEC-8CE0-A1D4CBEA232C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304920" y="2971800"/>
            <a:ext cx="3657600" cy="2308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282600" indent="-28260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UTUAL RESOURCE DEPENDEN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ing Task Suppor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Assistan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Prestig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Studen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4" name="Straight Connector 6"/>
          <p:cNvSpPr/>
          <p:nvPr/>
        </p:nvSpPr>
        <p:spPr>
          <a:xfrm>
            <a:off x="4267080" y="4114800"/>
            <a:ext cx="101628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Box 8"/>
          <p:cNvSpPr/>
          <p:nvPr/>
        </p:nvSpPr>
        <p:spPr>
          <a:xfrm>
            <a:off x="5486400" y="2787480"/>
            <a:ext cx="3443400" cy="2654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DEOLOGICAL MOTI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to Increase Access for U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 Respon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i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Box 12"/>
          <p:cNvSpPr/>
          <p:nvPr/>
        </p:nvSpPr>
        <p:spPr>
          <a:xfrm>
            <a:off x="533520" y="16002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vations to Particip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nding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80880" y="16761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ual Resource Depend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sk support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echnical assistanc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niversity prestig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ccess to student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01D4D1-B80F-4C41-B1F3-E32BED8CD02D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nding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ological Motiv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eed to increase acces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cial responsibility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mitment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6A7D60-FCAA-4380-B3EA-CD1B1BAAEC5A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04560" y="1600200"/>
            <a:ext cx="84582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udget cuts have small impact on how partners view the program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ivic interdependence explains partners’ participatio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Mutual need for resources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Mutual responsibility to address access gap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hared commitment to increase access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hared desire to increase engagement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046778-91C7-4F2D-894C-D27461E32AA6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6B991C-9ABE-4D2F-BB59-64AE1EEF1260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9" name="Diagram 4" descr=""/>
          <p:cNvPicPr/>
          <p:nvPr/>
        </p:nvPicPr>
        <p:blipFill>
          <a:blip r:embed="rId1"/>
          <a:stretch/>
        </p:blipFill>
        <p:spPr>
          <a:xfrm>
            <a:off x="1378080" y="2266920"/>
            <a:ext cx="685152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tribu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380880" y="1600200"/>
            <a:ext cx="838224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derstanding the motivations of school partners to participate in academic outreach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oth resource dependency and ideological motivations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etter understanding of what actions lead to good relationships between schools and universities in the context of academic outreach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ffects budget cuts have on these relationships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ition of community voice to research on institutional civic engagement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FF8216-C446-4ED8-87B0-BBBED395BB77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79040" y="1917360"/>
            <a:ext cx="7583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Questions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779040" y="3478320"/>
            <a:ext cx="7583400" cy="284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act Information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ug Barrer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barrera@college.ucla.edu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CLA Center for Community Learni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ww.communitylearning.ucla.edu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al Responsibility of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er Educ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228600" y="18284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0c0d08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0d08"/>
                </a:solidFill>
                <a:latin typeface="Times New Roman"/>
              </a:rPr>
              <a:t>History of purposes extending to the public goo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spcBef>
                <a:spcPts val="2001"/>
              </a:spcBef>
              <a:buClr>
                <a:srgbClr val="0c0d08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0d08"/>
                </a:solidFill>
                <a:latin typeface="Times New Roman"/>
              </a:rPr>
              <a:t>Need to expand access to postsecondary educatio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spcBef>
                <a:spcPts val="2001"/>
              </a:spcBef>
              <a:buClr>
                <a:srgbClr val="0c0d08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0d08"/>
                </a:solidFill>
                <a:latin typeface="Times New Roman"/>
              </a:rPr>
              <a:t>The role of outreach program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A85D6D-1F8C-4F61-9A2B-D6BEA2657190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terature on Outreach Pro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779040" y="1828440"/>
            <a:ext cx="7983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Most studies focus on student outcomes (Gándara &amp; Bial, 2001; Gónzalez &amp; Moll, 2002; Tierney &amp; Jun, 2001) </a:t>
            </a:r>
            <a:endParaRPr b="0" lang="en-US" sz="31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lnSpc>
                <a:spcPct val="70000"/>
              </a:lnSpc>
              <a:spcBef>
                <a:spcPts val="2001"/>
              </a:spcBef>
              <a:spcAft>
                <a:spcPts val="1001"/>
              </a:spcAft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Need research that focuses on the relationships with school partners</a:t>
            </a:r>
            <a:endParaRPr b="0" lang="en-US" sz="31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Hearing directly from community stakeholders</a:t>
            </a:r>
            <a:endParaRPr b="0" lang="en-US" sz="31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lnSpc>
                <a:spcPct val="70000"/>
              </a:lnSpc>
              <a:spcBef>
                <a:spcPts val="2001"/>
              </a:spcBef>
              <a:spcAft>
                <a:spcPts val="1001"/>
              </a:spcAft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e effects of current economy on outreach</a:t>
            </a:r>
            <a:endParaRPr b="0" lang="en-US" sz="31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What it means for the university meeting its diversity and social responsibility goals</a:t>
            </a:r>
            <a:endParaRPr b="0" lang="en-US" sz="31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188120-410F-4C00-9EBD-2B962AFF8927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oretical framework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4560" y="1345680"/>
            <a:ext cx="845820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o the school partners participate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urce Dependen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differentials (Emerson, 1962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tions dependent on resource-rich partners (Jacobs, 1974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re to reduce dependencies (Emerson, 1962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7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dependen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aboration (Hall et al, 1977; Lundin, 2007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yond material reasons (Johnson, 1995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vic Interdependen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E306C1-10F8-4EAD-9DC3-D74F6608956F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search Ques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do community partners participate in college preparation outreach?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does the university articulate its commitment to social responsibility and diversity, and how does participation in college preparation outreach affect community partners’ views of the university’s commitment?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531C1A-6B1B-44B8-AE54-5A7294E216FD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se Studi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779040" y="1828440"/>
            <a:ext cx="758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University of the Public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University Outreach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-wide progra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 with schools throughout reg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for underrepresented studen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ge advising for select group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143000" indent="-2826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pen to rest of school when availabl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4B4EF3-0D97-4DC3-AB63-0C67FDE64146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se Studi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779040" y="1828440"/>
            <a:ext cx="758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ience &amp; Math Outreac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wide progra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 with schools in narrow geographic are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all students in the school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to prepare students to be STEM majo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s students for annual competi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8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60109A-D8D2-4506-808E-88C27E37E8EE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ata Colle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779040" y="1345680"/>
            <a:ext cx="758340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cument Analysi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agreemen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ertising material (web content &amp; brochure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spcBef>
                <a:spcPts val="7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erview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partne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staff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directors, two coordinators for U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ized protoco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views lasted average of 45 minut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281D9B-85A9-44AD-999D-66758CB21669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ampl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04920" y="1676520"/>
            <a:ext cx="8534160" cy="48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ience &amp; Math Outreac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nly high school partner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erviewed 4 teachers &amp; 2 counselor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erviewed program director at UP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versity Outreac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nly high school partner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erviewed 15 counselors (at 14 schools)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1" marL="577800" indent="-295200">
              <a:spcBef>
                <a:spcPts val="6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erviewed program director and 2 site coordinators at UP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8604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143C7E-A846-40C9-AC50-A33C54DDC67C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16:46:41Z</dcterms:created>
  <dc:creator>Douglas Barrera</dc:creator>
  <dc:description/>
  <dc:language>en-US</dc:language>
  <cp:lastModifiedBy>Barrera, Douglas</cp:lastModifiedBy>
  <dcterms:modified xsi:type="dcterms:W3CDTF">2012-10-02T23:13:33Z</dcterms:modified>
  <cp:revision>44</cp:revision>
  <dc:subject/>
  <dc:title>Whose Job Is It Anyway? A Qualitative Exploration of Early Academic Outreach Through a Community-Campus Partnership Model</dc:title>
</cp:coreProperties>
</file>